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774-5AEF-4625-AE34-017680FC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824-3495-4A53-94E3-9A94357D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CC1-2940-4366-9B80-D2F1E34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991-4793-4BC0-89AC-4C604DF1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214-D6CE-4087-A65E-3F71751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523-84C3-4C0F-A42A-AF7E07CB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52A-C527-4ACE-A245-8A25B428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83D-7E9F-4EEC-B799-53D8DFA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5BB-AED4-44B9-9429-A77D0173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1CB-4E0B-46A8-9800-83C32E0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1FA-787D-4621-8147-F965923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E8D-B71B-4C30-95CE-14EEB3D4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BCD-51EF-4632-A27C-7D5549B2C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714840" y="221472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714840" y="37148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72120" y="307188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571760" y="314316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1500120" y="3286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6072120" y="31431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3643200" y="37148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3643200" y="21430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20"/>
          <p:cNvCxnSpPr/>
          <p:nvPr/>
        </p:nvCxnSpPr>
        <p:spPr>
          <a:xfrm flipH="1">
            <a:off x="2856960" y="2786040"/>
            <a:ext cx="6433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22"/>
          <p:cNvCxnSpPr/>
          <p:nvPr/>
        </p:nvCxnSpPr>
        <p:spPr>
          <a:xfrm flipH="1" flipV="1">
            <a:off x="2786040" y="4285800"/>
            <a:ext cx="6433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24"/>
          <p:cNvCxnSpPr/>
          <p:nvPr/>
        </p:nvCxnSpPr>
        <p:spPr>
          <a:xfrm flipH="1" flipV="1">
            <a:off x="5071320" y="378540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26"/>
          <p:cNvCxnSpPr/>
          <p:nvPr/>
        </p:nvCxnSpPr>
        <p:spPr>
          <a:xfrm>
            <a:off x="2785680" y="3714840"/>
            <a:ext cx="500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Multiply 31"/>
          <p:cNvSpPr/>
          <p:nvPr/>
        </p:nvSpPr>
        <p:spPr>
          <a:xfrm>
            <a:off x="2928960" y="3571920"/>
            <a:ext cx="214200" cy="285840"/>
          </a:xfrm>
          <a:custGeom>
            <a:avLst/>
            <a:gdLst>
              <a:gd name="textAreaLeft" fmla="*/ 31320 w 214200"/>
              <a:gd name="textAreaRight" fmla="*/ 182880 w 214200"/>
              <a:gd name="textAreaTop" fmla="*/ 53280 h 285840"/>
              <a:gd name="textAreaBottom" fmla="*/ 232560 h 285840"/>
            </a:gdLst>
            <a:ahLst/>
            <a:rect l="textAreaLeft" t="textAreaTop" r="textAreaRight" b="textAreaBottom"/>
            <a:pathLst>
              <a:path w="214314" h="285752">
                <a:moveTo>
                  <a:pt x="31310" y="83752"/>
                </a:moveTo>
                <a:lnTo>
                  <a:pt x="71636" y="53508"/>
                </a:lnTo>
                <a:lnTo>
                  <a:pt x="107157" y="100870"/>
                </a:lnTo>
                <a:lnTo>
                  <a:pt x="142678" y="53508"/>
                </a:lnTo>
                <a:lnTo>
                  <a:pt x="183004" y="83752"/>
                </a:lnTo>
                <a:lnTo>
                  <a:pt x="138661" y="142876"/>
                </a:lnTo>
                <a:lnTo>
                  <a:pt x="183004" y="202000"/>
                </a:lnTo>
                <a:lnTo>
                  <a:pt x="142678" y="232244"/>
                </a:lnTo>
                <a:lnTo>
                  <a:pt x="107157" y="184882"/>
                </a:lnTo>
                <a:lnTo>
                  <a:pt x="71636" y="232244"/>
                </a:lnTo>
                <a:lnTo>
                  <a:pt x="31310" y="202000"/>
                </a:lnTo>
                <a:lnTo>
                  <a:pt x="75653" y="14287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ultiply 32"/>
          <p:cNvSpPr/>
          <p:nvPr/>
        </p:nvSpPr>
        <p:spPr>
          <a:xfrm>
            <a:off x="5429160" y="3643200"/>
            <a:ext cx="214560" cy="285840"/>
          </a:xfrm>
          <a:custGeom>
            <a:avLst/>
            <a:gdLst>
              <a:gd name="textAreaLeft" fmla="*/ 31320 w 214560"/>
              <a:gd name="textAreaRight" fmla="*/ 183240 w 214560"/>
              <a:gd name="textAreaTop" fmla="*/ 53280 h 285840"/>
              <a:gd name="textAreaBottom" fmla="*/ 232560 h 285840"/>
            </a:gdLst>
            <a:ahLst/>
            <a:rect l="textAreaLeft" t="textAreaTop" r="textAreaRight" b="textAreaBottom"/>
            <a:pathLst>
              <a:path w="214314" h="285752">
                <a:moveTo>
                  <a:pt x="31310" y="83752"/>
                </a:moveTo>
                <a:lnTo>
                  <a:pt x="71636" y="53508"/>
                </a:lnTo>
                <a:lnTo>
                  <a:pt x="107157" y="100870"/>
                </a:lnTo>
                <a:lnTo>
                  <a:pt x="142678" y="53508"/>
                </a:lnTo>
                <a:lnTo>
                  <a:pt x="183004" y="83752"/>
                </a:lnTo>
                <a:lnTo>
                  <a:pt x="138661" y="142876"/>
                </a:lnTo>
                <a:lnTo>
                  <a:pt x="183004" y="202000"/>
                </a:lnTo>
                <a:lnTo>
                  <a:pt x="142678" y="232244"/>
                </a:lnTo>
                <a:lnTo>
                  <a:pt x="107157" y="184882"/>
                </a:lnTo>
                <a:lnTo>
                  <a:pt x="71636" y="232244"/>
                </a:lnTo>
                <a:lnTo>
                  <a:pt x="31310" y="202000"/>
                </a:lnTo>
                <a:lnTo>
                  <a:pt x="75653" y="14287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How it is (part 1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786200" y="221472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786200" y="37148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571760" y="314316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1547640" y="31417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4714920" y="3714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4714920" y="2286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785960" y="39290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171468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60"/>
          <p:cNvSpPr/>
          <p:nvPr/>
        </p:nvSpPr>
        <p:spPr>
          <a:xfrm flipV="1">
            <a:off x="298764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062160" y="2997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818f6"/>
                </a:solidFill>
                <a:latin typeface="Arial"/>
              </a:rPr>
              <a:t>Ventriloqu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87640" y="3213000"/>
            <a:ext cx="172872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How it is (part 2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786200" y="221472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786200" y="37148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571760" y="314316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1547640" y="31417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4714920" y="3714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4714920" y="2286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500720" y="429264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427640" y="42926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60"/>
          <p:cNvSpPr/>
          <p:nvPr/>
        </p:nvSpPr>
        <p:spPr>
          <a:xfrm flipV="1">
            <a:off x="4356000" y="38602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919240" y="3573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818f6"/>
                </a:solidFill>
                <a:latin typeface="Arial"/>
              </a:rPr>
              <a:t>Ventriloqu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700000" y="4005000"/>
            <a:ext cx="1655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Calibri"/>
              </a:rPr>
              <a:t>Whose voice is it anyw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28760" y="135720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How it could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435640" y="220500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5508720" y="414972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835280" y="2276640"/>
            <a:ext cx="100008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763640" y="22766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ade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435640" y="42210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364000" y="2205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835280" y="4221000"/>
            <a:ext cx="1000080" cy="1428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763640" y="4149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272320" y="3789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818f6"/>
                </a:solidFill>
                <a:latin typeface="Arial"/>
              </a:rPr>
              <a:t>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37893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48000" y="3141360"/>
            <a:ext cx="180180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4076640"/>
            <a:ext cx="187164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0:30:13Z</dcterms:created>
  <dc:creator>sapark</dc:creator>
  <dc:description/>
  <dc:language>en-US</dc:language>
  <cp:lastModifiedBy>gg2222</cp:lastModifiedBy>
  <dcterms:modified xsi:type="dcterms:W3CDTF">2009-07-04T11:16:19Z</dcterms:modified>
  <cp:revision>2</cp:revision>
  <dc:subject/>
  <dc:title>Whose voice is it anyway?</dc:title>
</cp:coreProperties>
</file>